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8D50-3FFA-4660-82C0-1C997CA6235C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62DE-02DF-41EB-ABFE-F13E20906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30D-C8D0-4FE2-B857-3C14A0AD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B18-3EEC-4CFF-8823-BE30D3CB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387-164E-4C09-BB49-9E07577C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9A0-DF60-4A8C-9480-71B169A8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7632-B208-48F6-86F7-031031BE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6CE9-C8CC-4E98-BED8-4AD0C31C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9DEE-D43B-4BDD-9CB1-31212A10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0F80-D9D2-4EB5-A16B-AFD76526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A540-7975-4E6A-B2DD-2B365DF7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AA63-60DA-44C0-B367-94598286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FCB9-E8D9-4A53-9AB4-F6C4C508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D58-44AA-4B5F-AD72-569E73BD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D737-3874-4503-AAC7-14094060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BC3A-F853-4D58-AED7-93A90D70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3A6D-743A-43E2-A856-0AA1303A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5E72-CEBA-44FB-A6CA-D09351B4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FA54-F102-4945-9FD2-F5879D57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B716A-4465-4F84-99F8-5D9ABAB6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39011-7C3F-4431-9C56-8CECF780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BF21B-28D8-42D8-B4DD-97CBAD13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E46CB-63F5-45E9-8C4E-1830A4F8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7A871-C16E-4D85-AD6A-3057B49F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E5B-8285-4FEB-9512-ACE59E53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810DD-351F-457A-92F9-30943AA7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9CEFA-6B09-417D-AB7E-0CC729E5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3B430-54FC-48E7-AA47-84AB1152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24E74-5E12-4420-A00D-8234D800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8DA66-FCEC-497B-99E7-79B75C0F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D1C89-F605-40CE-ADDE-9E6EDA79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F4F29-C23D-4140-947D-4CAD2367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E94F-794A-4672-9D3E-5844EFD2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4B74-5B3D-464D-83AB-14B048A3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8F9FD-214E-423A-B09C-5A438DDF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0F8-847A-4A4B-AD11-7E8C39AE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F89C9-8186-4E48-82DF-5785A426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F350E-242C-458A-ACDF-4AE65532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68B6-D72A-43E7-8027-65B8E7D8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E0D72-08E8-4CFE-ADED-9E46A490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20FB-6ADD-4906-B2CD-D80DBD3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AAB7-1A8C-4369-9458-2BB9CF8B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F0DD-800F-47CF-B6FC-59D2F97A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79483-BEBB-47BD-ACB2-E453B789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F75D-3FA4-412D-8C2C-22B76219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2D859-6FE8-47A1-B810-7F1A118D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4CF-D5D1-4920-A0E2-2515B73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6FED4-167D-493C-84CF-CB5383CD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6D584-3219-4AF9-8300-289646B7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4A032-E78C-4A9E-9CC3-0E9B60B5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61697-9B3A-408C-8E44-A9A77C09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46B9C-AF9A-4CDB-AF28-05089764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FA8E7-5F6B-40FD-903F-7F0087D7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C1967-0691-4BBA-91BD-6765E8DF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0EAE1-CEDE-49FA-A786-FB668220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9480F-F1B2-4D60-BADB-F274934E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E8909-CA74-4313-9ECE-03C0EF87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0A5-468D-4111-A2B5-EC45E71F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B1743-A88C-4395-82A9-83ACB956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EA334-E4B8-4477-92DF-F2970F95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18F69-8E69-4828-B689-B822B961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24FDF-461C-4D2E-8EBB-AFC2ACF2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E5500-9813-4596-B49B-90DC123E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D0C954-1E9B-472F-87F5-6D25344C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EABF1-A97C-46C1-8FF2-003E31DB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A6A2C-00C0-40D1-BDA8-11720E29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93AD5-6959-4ABD-8FD7-5D5F2F4D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C5660-1F57-415D-8F8D-388DA10B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C6E-1652-4E07-9730-7CF00715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57A03-300D-4904-8521-44D08726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C16A86-AE05-4983-86CC-39E23B6D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9C1B6-2BB6-4FB5-928B-233489DC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2875D-B70D-4379-B5A2-34C30127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2D9A8-BD9E-42C2-AD4C-EF3224EB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FBBDD-B130-4D5E-B9FD-B0992F4E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5A8F4-DDEC-4CD1-BC9C-05E1087A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F8A686-C652-41B5-860B-DFE16701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F3A3D-C391-4C58-960D-5BA85F81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D41D8-BC75-4C32-B007-7BBD5ADF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994-8015-4FCD-B0BB-D7B4AC79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BF89D-C8DA-4F06-922B-F31B1299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8D5DD-9893-4B92-ACE8-C113ABB7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B9403-5052-42C3-98CC-D0EA24D3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64B88-A7E2-4991-8C3D-34C42D3A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4AB0C-0325-49DB-B96E-3789AD5B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D2C-7FCF-49B1-B4DA-B47913D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 Bağlayıcı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Düz Bağlayıcı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Düz Bağlayıcı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Dikdörtgen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Düz Bağlayıcı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28A4-AEE4-4203-93DD-63738F11A0E1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ikdörtgen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Dikdörtgen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Dikdörtgen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Dikdörtgen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Düz Bağlayıcı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Düz Bağlayıcı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Düz Bağlayıcı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Düz Bağlayıcı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Düz Bağlayıcı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Düz Bağlayıcı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Dikdörtgen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9D1F-BEA7-4939-B41E-BBEEBFBFA792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üz Bağlayıcı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Düz Bağlayıcı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Düz Bağlayıcı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Dikdörtgen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Düz Bağlayıcı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4DA9-B1DE-466C-97F7-9AF204F7B1DA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ikdörtgen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Dikdörtgen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Dikdörtgen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Dikdörtgen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Düz Bağlayıcı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Düz Bağlayıcı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Düz Bağlayıcı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Düz Bağlayıcı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Düz Bağlayıcı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Dikdörtgen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Düz Bağlayıcı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3B96-4433-4686-87D7-84688AA444F3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üz Bağlayıcı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Düz Bağlayıcı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Düz Bağlayıcı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Dikdörtgen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Düz Bağlayıcı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5B12-C2DA-4A11-86CC-714240A1B9FC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üz Bağlayıcı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Düz Bağlayıcı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Düz Bağlayıcı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Düz Bağlayıcı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Dikdörtgen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Düz Bağlayıcı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4BA5-1162-4060-B535-0BFE9C6263C2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üz Bağlayıcı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Düz Bağlayıcı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Dikdörtgen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Düz Bağlayıcı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Düz Bağlayıcı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Düz Bağlayıcı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EAA5-648A-4F62-B864-A8DC5F207628}" type="slidenum"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57280" y="4000320"/>
            <a:ext cx="646272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668c4"/>
                </a:solidFill>
                <a:latin typeface="Century Schoolbook"/>
              </a:rPr>
              <a:t>НЕОБХОДИМОСТЬ ОБУЧЕНИЯ И СЕРТИФИКАЦИИ ОБСЛУЖИВАЮЩЕГО ПЕРСОНАЛА ХОЛОДИЛЬНЫХ АССОЦИАЦИЙ С ТОЧКИ ЗРЕНИЯ ЭНЕРГОСБЕРЕЖЕНИЯ</a:t>
            </a:r>
            <a:br>
              <a:rPr sz="2700"/>
            </a:b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КАДЫР ИСА</a:t>
            </a:r>
            <a:r>
              <a:rPr b="1" lang="tr-TR" sz="2400" spc="-1" strike="noStrike">
                <a:solidFill>
                  <a:srgbClr val="3668c4"/>
                </a:solidFill>
                <a:latin typeface="Century Schoolbook"/>
              </a:rPr>
              <a:t>, </a:t>
            </a: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ДОКТОР НАУК</a:t>
            </a:r>
            <a:r>
              <a:rPr b="1" lang="tr-TR" sz="2400" spc="-1" strike="noStrike">
                <a:solidFill>
                  <a:srgbClr val="3668c4"/>
                </a:solidFill>
                <a:latin typeface="Century Schoolbook"/>
              </a:rPr>
              <a:t>, </a:t>
            </a: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ЧЛЕН</a:t>
            </a:r>
            <a:r>
              <a:rPr b="1" lang="tr-TR" sz="18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1" lang="tr-TR" sz="1600" spc="-1" strike="noStrike">
                <a:solidFill>
                  <a:srgbClr val="3668c4"/>
                </a:solidFill>
                <a:latin typeface="Century Schoolbook"/>
              </a:rPr>
              <a:t>ASHRAE</a:t>
            </a:r>
            <a:br>
              <a:rPr sz="2400"/>
            </a:b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СТАМБУЛЬСКИЙ УНИВЕРСИТЕТ</a:t>
            </a:r>
            <a:r>
              <a:rPr b="1" lang="tr-TR" sz="2000" spc="-1" strike="noStrike">
                <a:solidFill>
                  <a:srgbClr val="3668c4"/>
                </a:solidFill>
                <a:latin typeface="Century Schoolbook"/>
              </a:rPr>
              <a:t>- </a:t>
            </a: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ТУРЦИЯ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123640" y="5805000"/>
            <a:ext cx="6551640" cy="5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Ежегодная Встреча Региональной Озоновой Сети для Европы и Центральной Азии</a:t>
            </a:r>
            <a:r>
              <a:rPr b="1" lang="en-US" sz="1000" spc="-1" strike="noStrike">
                <a:solidFill>
                  <a:srgbClr val="575f6d"/>
                </a:solidFill>
                <a:latin typeface="Century Schoolbook"/>
              </a:rPr>
              <a:t> (E</a:t>
            </a: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Ц</a:t>
            </a:r>
            <a:r>
              <a:rPr b="1" lang="en-US" sz="1000" spc="-1" strike="noStrike">
                <a:solidFill>
                  <a:srgbClr val="575f6d"/>
                </a:solidFill>
                <a:latin typeface="Century Schoolbook"/>
              </a:rPr>
              <a:t>A)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Белград</a:t>
            </a:r>
            <a:r>
              <a:rPr b="1" lang="tr-TR" sz="10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Сербия</a:t>
            </a:r>
            <a:r>
              <a:rPr b="1" lang="tr-TR" sz="1000" spc="-1" strike="noStrike">
                <a:solidFill>
                  <a:srgbClr val="575f6d"/>
                </a:solidFill>
                <a:latin typeface="Century Schoolbook"/>
              </a:rPr>
              <a:t>, 10-13 </a:t>
            </a: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Мая</a:t>
            </a:r>
            <a:r>
              <a:rPr b="1" lang="tr-TR" sz="1000" spc="-1" strike="noStrike">
                <a:solidFill>
                  <a:srgbClr val="575f6d"/>
                </a:solidFill>
                <a:latin typeface="Century Schoolbook"/>
              </a:rPr>
              <a:t> 2011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ИЗМЕНЕНИЕ НАВЫКОВ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760" y="1143000"/>
            <a:ext cx="77040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, конечно, должны знать больше о том, как меняются рабочие места и развиваются задачи, какими знаниями, навыками и компетенцией обладают специалисты холодильной отрасли и систем кондиционирования, за исключением своей конкретной формальной квалификации им необходимо развивать профессиональную структу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также необходимо иметь четкое представление о том, как совпадают спрос и предложение. Эта информация имеет решающее значение чтобы понять существует ли риск несоответствия уровня квалификации и навыков специалистов в холодильной отрасли и системе кондиционир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ИЗМЕНЕНИЕ ТРЕБОВАНИЙ К НАВЫКА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989000"/>
            <a:ext cx="746748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спросе на профессиональные навыки и профессии, считаются частью основных последствий экологизации экономики. Можно выделить следующие воздейств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навыки станут устаревши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о структурными изменениями на рынке труда и сдвигами занятости, как внутри, так и между отраслями, за счет спроса зеленой экономики.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ИЗМЕНЕНИЕ ТРЕБОВАНИЙ К НАВЫКА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2133720"/>
            <a:ext cx="7467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рос на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екоторые новые навы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сформирует новую профессию </a:t>
            </a: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“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зеленые воротнички</a:t>
            </a:r>
            <a:r>
              <a:rPr b="1" lang="en-US" sz="2400" spc="-1" strike="noStrike">
                <a:solidFill>
                  <a:srgbClr val="00b050"/>
                </a:solidFill>
                <a:latin typeface="Century Schoolbook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торая появиться в поддержку адаптации и смягчению последствий изменения клима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авыки, необходимые для существующих рабочих мест будут иметь более сильный экологический элемен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из-за изменений существующих профессиональных профил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В ПЕРВУЮ ОЧЕРЕДЬ ОБУ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28400" y="114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Большинство развитых стран требуют подготовки, обучения и повышения квалификации для специалистов, работающих в холодильной отрасли и системе кондиционирования воздуха. Холодильная промышленность и система кондиционирования воздуха в некоторых странах рассматривается не только как профессия, связанная с торговлей</a:t>
            </a: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n-US" sz="23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Для поддержания уровня жизни, не оплачивая слишком много за власть или тепловой комфорт, мы должны изменить мышление арендаторов зданий и людей, работающих на них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В ПЕРВУЮ ОЧЕРЕДЬ ОБУЧ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000" y="1600200"/>
            <a:ext cx="75596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длежащее обучение техников, обучение энергетическому аудиту и менеджменту, особый акцент на эксплуатацию и техническое обслуживание, обучение студентов установке и обслуживанию оборуд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Это все сводится к надлежащей подготовке техников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ЗЕЛЁНЫЕ ВЫЗОВ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57120" y="107136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ка низкоуглеродной, ресурсоэффективной и конкурентоспособной экономики сначала потребует общего повышения квалификации (потенциальной) рабочей силы. Это потребует значительных инвестиций в эффективное образование и обуч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елёные вызовы предлагают отличную возможность для реализации политики, которая является необходимостью: хорошее базовое образование обеспечивает наилучшую основу для развития навыков в течение всей жизни.</a:t>
            </a:r>
            <a:r>
              <a:rPr b="0" lang="tr-T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ЗЕЛЁНЫЕ ВЫЗОВ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989000"/>
            <a:ext cx="746748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 многих случаях, основные навыки дополняются некоторыми конкретными экологически-ориентированными навыками, которых достаточно для перехода к более экологичной работе. Помимо необходимости адаптации учебных курсов в контексте активной политики на рынке труда требуется адекватное длительное обучение и система обучения без отрыва от производст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ЗЕЛЁНЫЕ ВЫЗОВ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9640" y="1628280"/>
            <a:ext cx="7467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т вид обучения является ответственностью работников, работодателей и органов власти, и призывает системы к трехстороннему финансированию обуч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и должны гарантировать, что необходимое повышение квалификации будет доступным и реальным. Кроме того, необходимо уделять больше внимания подготовке инструкторов и включение преподавателей и учителей к преподаванию соответствующих новых "зеленых" технолог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ССЫЛ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Gordon V.R. Holness P.E., ASHRAE, </a:t>
            </a:r>
            <a:r>
              <a:rPr b="0" i="1" lang="tr-TR" sz="1800" spc="-1" strike="noStrike">
                <a:solidFill>
                  <a:srgbClr val="000000"/>
                </a:solidFill>
                <a:latin typeface="Century Schoolbook"/>
              </a:rPr>
              <a:t>2011 National HVACR  Education &amp; Trainers Conference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Skills Supply and Demand in Europe, Medium-Term Forecast Up to 2020, </a:t>
            </a:r>
            <a:r>
              <a:rPr b="0" i="1" lang="tr-TR" sz="1800" spc="-1" strike="noStrike">
                <a:solidFill>
                  <a:srgbClr val="000000"/>
                </a:solidFill>
                <a:latin typeface="Century Schoolbook"/>
              </a:rPr>
              <a:t>European Centre for the Development of Vocational Training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, 2010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wards a 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ener 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bour 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rket –The 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ployment 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mension of 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ckling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 Environmental Challenges,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Final report endorsed by EMCO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vember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 10,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2010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Kadir Isa, Ismail Ekmekci, H. Riza Güven, Expectations in Vocational and Technical Education in Turkey, </a:t>
            </a:r>
            <a:r>
              <a:rPr b="0" i="1" lang="tr-TR" sz="1800" spc="-1" strike="noStrike">
                <a:solidFill>
                  <a:srgbClr val="000000"/>
                </a:solidFill>
                <a:latin typeface="Century Schoolbook"/>
              </a:rPr>
              <a:t>Edu-World Conference, </a:t>
            </a:r>
            <a:r>
              <a:rPr b="0" lang="tr-TR" sz="1800" spc="-1" strike="noStrike">
                <a:solidFill>
                  <a:srgbClr val="000000"/>
                </a:solidFill>
                <a:latin typeface="Century Schoolbook"/>
              </a:rPr>
              <a:t>Romania, May 2004</a:t>
            </a:r>
            <a:r>
              <a:rPr b="0" i="1" lang="tr-TR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360" y="274320"/>
            <a:ext cx="623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КОНТАК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979640" y="1989000"/>
            <a:ext cx="540072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дыр Иса</a:t>
            </a:r>
            <a:r>
              <a:rPr b="0" lang="tr-TR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Доктор наук</a:t>
            </a:r>
            <a:r>
              <a:rPr b="0" lang="tr-TR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амбульский университет, Инженерный факульте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тделение Машинострое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entury Schoolbook"/>
              </a:rPr>
              <a:t>Avcilar Campus, 34320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амбул</a:t>
            </a:r>
            <a:r>
              <a:rPr b="0" lang="tr-TR" sz="20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урц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entury Schoolbook"/>
              </a:rPr>
              <a:t>T: +90 212 473 7070 / 17837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entury Schoolbook"/>
              </a:rPr>
              <a:t>F: +90 212 473 708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entury Schoolbook"/>
              </a:rPr>
              <a:t>E: isa@istanbul.edu.t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entury Schoolbook"/>
              </a:rPr>
              <a:t>kadir.isa@gmail.co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684360" y="981000"/>
            <a:ext cx="741672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Schoolbook"/>
              </a:rPr>
              <a:t>‘</a:t>
            </a:r>
            <a:r>
              <a:rPr b="0" i="1" lang="ru-RU" sz="2600" spc="-1" strike="noStrike">
                <a:solidFill>
                  <a:srgbClr val="000000"/>
                </a:solidFill>
                <a:latin typeface="Century Schoolbook"/>
              </a:rPr>
              <a:t>В "кастовой системе", профессии или специальности были строго отделены друг от друга. На вершине были священники или Брахманы.</a:t>
            </a:r>
            <a:r>
              <a:rPr b="0" i="1" lang="tr-TR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entury Schoolbook"/>
              </a:rPr>
              <a:t>Они отвечали за священные знания.</a:t>
            </a:r>
            <a:r>
              <a:rPr b="0" i="1" lang="en-US" sz="2600" spc="-1" strike="noStrike">
                <a:solidFill>
                  <a:srgbClr val="000000"/>
                </a:solidFill>
                <a:latin typeface="Century Schoolbook"/>
              </a:rPr>
              <a:t> [...] </a:t>
            </a:r>
            <a:r>
              <a:rPr b="0" i="1" lang="ru-RU" sz="2600" spc="-1" strike="noStrike">
                <a:solidFill>
                  <a:srgbClr val="000000"/>
                </a:solidFill>
                <a:latin typeface="Century Schoolbook"/>
              </a:rPr>
              <a:t>Небольшая часть населения была исключена из любой касты.</a:t>
            </a:r>
            <a:r>
              <a:rPr b="0" i="1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entury Schoolbook"/>
              </a:rPr>
              <a:t>Они были изгоями, людьми, которым давали самую грязную и неприятную работу. Так они стали известны как "неприкасаемые". Они должны были убедиться, что их тени не коснулись другого человека, потому что даже это считалось осквернением.</a:t>
            </a:r>
            <a:r>
              <a:rPr b="0" i="1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entury Schoolbook"/>
              </a:rPr>
              <a:t>Люди могут быть очень жестокими</a:t>
            </a:r>
            <a:r>
              <a:rPr b="0" i="1" lang="en-US" sz="2600" spc="-1" strike="noStrike">
                <a:solidFill>
                  <a:srgbClr val="000000"/>
                </a:solidFill>
                <a:latin typeface="Century Schoolbook"/>
              </a:rPr>
              <a:t>.’ (Gombrich, 2005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9,-104,117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9,-104,117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В ТУРЦИИ</a:t>
            </a:r>
            <a:r>
              <a:rPr b="1" lang="tr-TR" sz="2700" spc="-1" strike="noStrike">
                <a:solidFill>
                  <a:srgbClr val="ff0000"/>
                </a:solidFill>
                <a:latin typeface="Century Schoolbook"/>
              </a:rPr>
              <a:t>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197000"/>
            <a:ext cx="77756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личие образованной и хорошо подготовленной рабочей силы является ключевым фактором для сохранения конкурентоспособности в мировой экономике. Несмотря на значительные улучшения, население Турции характеризуется низким уровнем человеческих ресурсов (по данным школьного образования)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тя планы развития разработаны в 1970-е годы и в последующем был сделан акцент на профессиональные навыки, предусматривалась доля в 65% по профессиональному и техническому компонентам в системе среднего образования, но эта цель не была достигну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В ТУРЦИИ</a:t>
            </a:r>
            <a:r>
              <a:rPr b="1" lang="tr-TR" sz="3000" spc="-1" strike="noStrike">
                <a:solidFill>
                  <a:srgbClr val="ff0000"/>
                </a:solidFill>
                <a:latin typeface="Century Schoolbook"/>
              </a:rPr>
              <a:t>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643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остоянию на 2009 год, только один из трех студентов, обучающихся в средних школах получал профессионально-техническое образов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тем сопоставления дорыночных навыков с потребностями рынка труда, профессиональное образование как ожидается, поможет выпускникам облегчить их путь на рынок труда. Статистические данные показывают, что это не происходит - значительное большинство, предпочитает высшее образов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ef237"/>
                </a:solidFill>
                <a:latin typeface="Century Schoolbook"/>
              </a:rPr>
              <a:t>ЭНЕРГОЭФФЕКТИВНОЕ И УСТОЙЧИВОЕ БУДУЩЕЕ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000080"/>
            <a:ext cx="77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нденции, связанные с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м спроса на энергоносители, снижением объёма поставок и отрицательным воздействием на окружающую сре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лодильной промышленности и системе кондиционирования, которые мы пытаемся разреши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ОСТАВЛЯЮЩИЕ ЭЛЕМЕН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05000"/>
            <a:ext cx="69530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%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ление свежей в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%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ос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отход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энерг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%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риродного газ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%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электроэнерг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ef237"/>
                </a:solidFill>
                <a:latin typeface="Century Schoolbook"/>
              </a:rPr>
              <a:t>МЫ ОЖИДАЕ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1628640"/>
            <a:ext cx="8447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 изолированные ограждающие конструкции зд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ированное использование дневного св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енерация тепла, выбрасываемого воздуха наруж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ное использование тепловых насо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й нагрев и системы охлажд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производительность упакованных систе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рерывный введение в эксплуатаци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сс и техн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74674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ВЕДЕНИЕ В ЭКСПЛУАТАЦИЮ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СС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ИЧЕСКОЕ ОБСЛУЖИВАНИЕ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İçerik Yer Tutucusu 3" descr=""/>
          <p:cNvPicPr/>
          <p:nvPr/>
        </p:nvPicPr>
        <p:blipFill>
          <a:blip r:embed="rId1"/>
          <a:srcRect l="0" t="18348" r="-1412" b="0"/>
          <a:stretch/>
        </p:blipFill>
        <p:spPr>
          <a:xfrm>
            <a:off x="755640" y="1268280"/>
            <a:ext cx="3938760" cy="1822680"/>
          </a:xfrm>
          <a:prstGeom prst="rect">
            <a:avLst/>
          </a:prstGeom>
          <a:ln w="0">
            <a:noFill/>
          </a:ln>
        </p:spPr>
      </p:pic>
      <p:pic>
        <p:nvPicPr>
          <p:cNvPr id="374" name="Resim 4" descr=""/>
          <p:cNvPicPr/>
          <p:nvPr/>
        </p:nvPicPr>
        <p:blipFill>
          <a:blip r:embed="rId2"/>
          <a:srcRect l="0" t="8883" r="3208" b="0"/>
          <a:stretch/>
        </p:blipFill>
        <p:spPr>
          <a:xfrm>
            <a:off x="2484360" y="3573360"/>
            <a:ext cx="4405320" cy="2695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27367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ПРИ НАДЛЕЖАЩЕЙ СИСТЕМ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0920" y="1844280"/>
            <a:ext cx="73134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ильная промышленность и система кондиционирования являются огромным сектором промышленности и потребляют больше электроэнергии, чем какая-либо другая отрасль, за исключением перевозок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люди обсуждают энергоэффектив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елен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ю дене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ом на все эти утверждения является надлежащим образом установленное оборудование для кондиционирования воздуха и холодильное оборудовани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13:02Z</dcterms:created>
  <dc:creator>Kadir iSA</dc:creator>
  <dc:description/>
  <dc:language>en-US</dc:language>
  <cp:lastModifiedBy>home</cp:lastModifiedBy>
  <dcterms:modified xsi:type="dcterms:W3CDTF">2011-07-20T05:52:45Z</dcterms:modified>
  <cp:revision>97</cp:revision>
  <dc:subject/>
  <dc:title>PowerPoint Sunusu</dc:title>
</cp:coreProperties>
</file>